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B65D-9C53-4598-AF2A-A5082B8BA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CBA6-B811-40AB-B114-625DC1A0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EB60-E167-4B47-94F5-DDA057AD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4D96-4157-46E0-8D63-7DEB1E3AF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C4FA-33B9-49BF-A4F2-939CF432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0961-5AED-4CAA-8603-D46DA7B1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2979-AD1D-448C-9749-C87C89CA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BD7E-DDA6-409B-97DF-76A6EDB3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9B3D-17D8-49BC-BC14-BDC2F85B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3EC5-4C2F-47BF-B68E-70F591B6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5AE1-D143-4AF1-AF9C-BA61B7F0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72E3-87BF-4B99-B4A7-54B0017A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5A91-316A-4F1D-BBE4-254C07718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slade i Räddningstjänst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3-01-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4 Laho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2 Knä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3716280"/>
            <a:ext cx="2828880" cy="2762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05280" y="3157560"/>
            <a:ext cx="133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Räddningstjänste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3334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nder på väg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2276280"/>
            <a:ext cx="800244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Räddningstjänsten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333440" cy="542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9640" y="2205000"/>
            <a:ext cx="814716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Swedbank har en</a:t>
            </a:r>
            <a:br>
              <a:rPr sz="2800"/>
            </a:b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arbetslöshetsförsäkring som täcker för en viss del av den förlorade arbetsförtjän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Dock gäller inte denna om ett arbete finns vid sidan 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332000" y="4149720"/>
            <a:ext cx="62881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ågor?????????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Räddningstjänsten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133200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er fö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syssl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all ha varit anställd minst 1 å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sättningen får ej överstiga 7680kr/mån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all arbeta heltid vs ej avdrag för larm eller att man inarbetar de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Övningar/beredskap räknas som bisyssla men inte l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443640" y="115920"/>
            <a:ext cx="2543040" cy="1800360"/>
          </a:xfrm>
          <a:prstGeom prst="rect">
            <a:avLst/>
          </a:prstGeom>
          <a:ln w="0">
            <a:noFill/>
          </a:ln>
        </p:spPr>
      </p:pic>
      <p:pic>
        <p:nvPicPr>
          <p:cNvPr id="49" name="Räddningstjänste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3334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ätt till ersätt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Den arbetslöse skall lämna intyg om att rtj omedelbart kan befria den anställde från tjänstgöringsskyldighet i samband med att  den anställde blir erbjuden ett annat arbete som inte kan förenas med den nya tjän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Får ej vakta mer än sin ordinarie vec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104240" y="0"/>
            <a:ext cx="1477800" cy="1773360"/>
          </a:xfrm>
          <a:prstGeom prst="rect">
            <a:avLst/>
          </a:prstGeom>
          <a:ln w="0">
            <a:noFill/>
          </a:ln>
        </p:spPr>
      </p:pic>
      <p:pic>
        <p:nvPicPr>
          <p:cNvPr id="53" name="Räddningstjänste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3334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sätt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 högsta ersättningen från a-kassan är 680kr/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 5 larm på 5 olika dagar dagt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22x5=1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x340=1700       totalt     2810k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ga l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x680= 3400       totalt     3400k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lanskillnad 590kr/vecka i detta 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659640" y="3789360"/>
            <a:ext cx="1095120" cy="1609560"/>
          </a:xfrm>
          <a:prstGeom prst="rect">
            <a:avLst/>
          </a:prstGeom>
          <a:ln w="0">
            <a:noFill/>
          </a:ln>
        </p:spPr>
      </p:pic>
      <p:pic>
        <p:nvPicPr>
          <p:cNvPr id="57" name="Räddningstjänste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3334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218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Ett larm per dag, räknas som en halv arbetad d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Ersättningsperioden är 300 dagar för alla, både hel- och deltidsarbetslösa. Men bara 75 av dem kan användas för ersättning när du är deltidsarbetslös. Den begränsningen kallas 75-dagarsregeln. Om du under en vecka både får ersättning från a-kassan och jobbar deltid räknas de dagar du får ersättning som deltidsdagar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093080" y="5300640"/>
            <a:ext cx="1800000" cy="1403280"/>
          </a:xfrm>
          <a:prstGeom prst="rect">
            <a:avLst/>
          </a:prstGeom>
          <a:ln w="0">
            <a:noFill/>
          </a:ln>
        </p:spPr>
      </p:pic>
      <p:pic>
        <p:nvPicPr>
          <p:cNvPr id="61" name="Räddningstjänsten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333440" cy="542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5-dagars regel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Exempel:Kalle blir arbetslös och påbörjar en ersättningsperiod som innehåller 300 dagar. 75 av dem kan användas som deltidsdagar.Vecka 1: Kalle är helt arbetslös och får ersättning 5 dagar.När veckan är slut har Kalle 295 ersättningsdagar kvar i perioden. Han kan fortfarande använda 75 dagar av de 295 som deltidsdag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Vecka 2: Kalle arbetar deltid 3 dagar och får ersättning 2 dagar. Dessa 2 ersättningsdagar räknas som deltidsdagar.När veckan är slut har Kalle 293 ersättningsdagar kvar i perioden. Men eftersom han har använt 2 deltidsdagar kan han nu bara använda 73 av de 293 dagarna som deltidsdagar.      f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Räddningstjänsten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332000" cy="542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ur länge räcker dagarn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028000" y="5877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ur länge räcker dagarn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Exempel vid arbete 2 dagar per vaktvec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räcker de 75 dgr i 1 år och 21 veck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de 300 dagarna i 1 år och 17 veck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Exempel  vid arbete 4,5 dagar per vaktvec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tar de 75 dagarnas slut efter 49 veck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Räddningstjänsten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332000" cy="542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859280" y="4941720"/>
            <a:ext cx="39006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rsättning för deltidsarbet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 som stämplar upp till heltid kan få ersättning under högst 75 dagar inom en period på totalt 300 ersättningsdag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är dessa dagar är förbrukade kommer man i ett läge där man måste välja mel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tidsarbetet och ingen mer a-k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äga upp sin deltidsanställ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308720" y="4705200"/>
            <a:ext cx="1629000" cy="2152800"/>
          </a:xfrm>
          <a:prstGeom prst="rect">
            <a:avLst/>
          </a:prstGeom>
          <a:ln w="0">
            <a:noFill/>
          </a:ln>
        </p:spPr>
      </p:pic>
      <p:pic>
        <p:nvPicPr>
          <p:cNvPr id="74" name="Räddningstjänste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3334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r har vi jobbat och hur jobbar vi vid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000" y="2276280"/>
            <a:ext cx="800244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akt med a-ka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akt med riksdagsledamö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akt med SK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till KLK :s ledningsgru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KS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jänsteskrivelse till kommu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064280" y="4724280"/>
            <a:ext cx="1798560" cy="1949400"/>
          </a:xfrm>
          <a:prstGeom prst="rect">
            <a:avLst/>
          </a:prstGeom>
          <a:ln w="0">
            <a:noFill/>
          </a:ln>
        </p:spPr>
      </p:pic>
      <p:pic>
        <p:nvPicPr>
          <p:cNvPr id="78" name="Räddningstjänste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3334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12:55:14Z</dcterms:created>
  <dc:creator> </dc:creator>
  <dc:description/>
  <dc:language>en-US</dc:language>
  <cp:lastModifiedBy>LADT</cp:lastModifiedBy>
  <dcterms:modified xsi:type="dcterms:W3CDTF">2013-01-08T10:26:50Z</dcterms:modified>
  <cp:revision>10</cp:revision>
  <dc:subject/>
  <dc:title>Varslade i Räddningstjänsten 2013-01-07</dc:title>
</cp:coreProperties>
</file>